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08F-34FD-4F68-8351-0FEB0682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A02-5031-4A25-AD66-41BC147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1F6-5953-43BD-90C7-31487B71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FA4-1D08-46F2-B2E8-349FF12E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927E-1CA6-4109-94A9-2AF3A1A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C0D5-79D3-4CAB-B835-4DC987D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2719-9AF6-4546-9685-903B5FF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054B-BA8C-444B-A154-39DB337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94E3-04CB-40C4-83A6-4761AF3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485-AC56-4E22-8DE3-CB4CDB9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A6C0-73C0-48F6-82BF-13BF3232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DD8-219B-40D0-A39A-162FF05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D66F-8E56-43B2-8415-08C3FDB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A185-6B5B-4334-A73F-1E76BB6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EE8-3662-4CA7-A38C-C4E245D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A8A-CB4F-499A-8A92-6C5DB778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1D33-15E2-4C70-A76A-1C2A76E3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25A5-DC37-4E8E-BFCD-14503FDE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9EB0-52AF-4776-9BFD-1C58225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7224-1B7A-44EF-B1CB-FD2E06B1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D263-37A5-4B76-93B8-2AC02177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F588-342D-48CC-9B88-BCF57AB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754-D25F-4844-B174-8219CDB5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183E-AFE5-4821-879C-20B2190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ECE7-B90B-4E7B-935C-C1D17564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591D-62A5-422A-837C-6A896D3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2E7E-3E73-48CF-B8F6-1A12C5E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6B53-AE0B-45E1-AB7E-BEA4959A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C71A-2597-4E8C-B30F-918C8501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8A93-C7ED-43A5-99EB-FFCA7158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CCFD-9072-4308-BCCB-57771BB6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A7A1-F4FE-495A-8D46-0F453972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6558-2C24-459C-8510-904173A5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6A7-A07E-4EDF-952E-377CAB8E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98B2-558F-4B39-9FEF-170F3D1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BB87-DAD0-4DAA-A365-F6401D30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67A6-EE42-4B57-98AB-571B59C7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D551-9182-4DEA-AEA4-5349A56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E99D-DD1C-47CE-B9CB-DBC5D41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6ADA-8599-45CB-9341-6697AED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75DA-E60A-49FA-AA45-DD67739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AC16-0BDF-4175-B582-DB356141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946A-C34B-409A-A54E-D1A53D19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DF7D3-2A27-4F47-A515-B2FFCBB8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0B3-1FF9-4D60-8F83-AAB0218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8615-5FA4-4A79-9C75-90F8102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6C66-0558-47EA-8C69-78463BA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2A368-FFD2-4C6D-844C-530E991F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029D-8A54-4225-BDE1-47AEEDD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C7141-09A2-4811-A82D-5BB0EAFD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6AB8-B3AA-4156-8B14-ECA6FF9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EE79-8584-448D-A18B-B457657D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2304-83A2-4B5D-844E-5D65770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1945-6909-4837-A73C-D93E093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572E-1EB1-47DA-B6F5-E4191CD4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BE6-4E5F-467B-8C89-11340E86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44FC-4B0F-41CF-A452-9AFEDCAA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5F4B-1FDB-4DAE-9FB7-3D15A807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C88C-84D2-4865-82DC-85104E4B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74F5-70F3-4931-A738-C0932871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4010-AC57-450D-B822-0122BCDE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8D500-F3BE-4758-851F-ED73D9C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27D2-47E0-42C1-9B40-1D0E9D3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1301-7A71-4C7D-9297-B08D64D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07D3A-776E-441B-82DC-A3C1AA2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4E88-907F-47F2-B249-50F7FD2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265-1C5A-439E-B797-7517FD2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D6C0-E391-44F5-A180-1C2F824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A5639-AC78-4A6A-9914-97FF513F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0363-F401-4CCA-98B3-95222341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32585-5479-4B55-9B6B-1581A830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2723-4AB6-431C-8FB8-7A8D43CF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B193-8A22-49A8-9750-4CFA3017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8C36-693F-4B5E-9D7C-DB0A605B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0361E-0405-454A-B024-B766CAF6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CE47-217B-4DF5-9D78-1CD09C40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88C3-C92E-427D-AD16-879FB29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313-312F-4C70-8CD9-1B65A1E8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2F5B5-6899-41E8-9D28-6457C78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52476-4D2F-4435-9902-AAA2A56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289B5-A687-4FF1-9A6B-0A69E38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6E99-3EC9-4BF3-B41C-7691F1E5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C358-7494-4C6A-8507-78A23633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CFFA2-876E-43AE-9E77-67690ACB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59BCE-7AED-4C02-ABCD-508FFB73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5F15-9D99-496E-B9D9-B60620EE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3C1A-49F1-4FFE-B7AE-8F9FE46E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3FF9-F62C-4722-B7A8-C6E08EB4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ECB-65BF-4FC5-90F4-2ED4453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86C7-C574-4099-9E9C-9258AB06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9D7CF-5C4B-4E22-9A83-DD12FEC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24D95-7982-42A1-9723-241A65C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CA9D-DD51-4B02-9E56-8334461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F5BA0-FD13-47E1-AAF1-81840BE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1AAD8-2B1B-40A8-8330-9F96AA4A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95E3C-99DA-47D9-9270-F85B3D81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AAAD9-8078-4B1A-9B12-0CB5D01725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53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5A7FE-D2FB-414C-BBA5-B7237A7A1E7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4FDAA-8850-4DC9-BA6D-4D7FE2EA3B1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5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3BCBF-7D7C-4B85-B888-25BF2CB5AE1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1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794D2-358C-424F-8CC6-38F4E8A7C4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A785E-2BE2-4F63-9B8F-6B1DF9478D7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1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10497-47DD-4084-BA03-B6C027E1105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7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D6621-98B1-41E5-AAFE-E8D1BCB3A4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docs.cntd.ru/document/1301308270#7EC0KH" TargetMode="External"/><Relationship Id="rId2" Type="http://schemas.openxmlformats.org/officeDocument/2006/relationships/hyperlink" Target="https://docs.cntd.ru/document/1301308270#7EG0KJ" TargetMode="External"/><Relationship Id="rId3" Type="http://schemas.openxmlformats.org/officeDocument/2006/relationships/hyperlink" Target="https://docs.cntd.ru/document/1301308270#7E20KB" TargetMode="External"/><Relationship Id="rId4" Type="http://schemas.openxmlformats.org/officeDocument/2006/relationships/hyperlink" Target="https://docs.cntd.ru/document/1301308270#7E20KB" TargetMode="External"/><Relationship Id="rId5" Type="http://schemas.openxmlformats.org/officeDocument/2006/relationships/hyperlink" Target="https://docs.cntd.ru/document/1301308270#7E20KB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36520"/>
            <a:ext cx="1219212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Рекомендации для тех, кто аттестуется</a:t>
            </a:r>
            <a:br>
              <a:rPr sz="5400"/>
            </a:b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3f7819"/>
                </a:solidFill>
                <a:latin typeface="Arial Narrow"/>
              </a:rPr>
              <a:t>/</a:t>
            </a:r>
            <a:r>
              <a:rPr b="1" lang="ru-RU" sz="3200" spc="-1" strike="noStrike">
                <a:solidFill>
                  <a:srgbClr val="3f7819"/>
                </a:solidFill>
                <a:latin typeface="Arial Narrow"/>
              </a:rPr>
              <a:t>информационные материалы по вопросам аттестации/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15880" y="4848120"/>
            <a:ext cx="115459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Вотякова Ирина Александров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Методист  технического отдела аттест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педагогических кадров ГАУ ДПО НСО НИПКиПР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66549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800" y="0"/>
            <a:ext cx="1209996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методист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02680" y="1874520"/>
            <a:ext cx="12401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методическим объедин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образовательной организации и активного участия в методической работе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разработкой программно-методического сопровож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, в том числе методического сопровождения реализации инновационных образовательных программ и проектов в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ой поддержки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 при подготовке к участию в профессиональных конкурса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я в методической поддержке (сопровождении)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направленной на их профессиональное развитие, преодоление профессиональных дефицит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и опы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менению в образовательной организации авторских учебных и (или) учебно-методических разработ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800" y="150840"/>
            <a:ext cx="1209996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1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наставник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03040" y="2141640"/>
            <a:ext cx="1168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руководства практической подготовкой студентов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по образовательным программам среднего профессионального образования и (или) образовательным программам высшего образования;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наставничества в отношении педагогических работник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активного сопровождения их профессионального развития в образовательной организации;                содействия в подготовке педагогических работников, в том числе из числа молодых специалистов, к участию в конкурсах профессионального (педагогического) мастерства;                     - -     --распространения авторских подходов и методических разработок в области наставнической деятельности в образовательной организации.                                            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2"/>
          <p:cNvSpPr/>
          <p:nvPr/>
        </p:nvSpPr>
        <p:spPr>
          <a:xfrm>
            <a:off x="614520" y="531720"/>
            <a:ext cx="1073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.52. Оценка деятельност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х работников в целях установления квалификационных категори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"педагог-методист" и "педагог-наставник"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аттестационной комиссие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снове ходатайств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дателя, предусмотренного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"/>
              </a:rPr>
              <a:t>п. 48  Поряд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а также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казател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усмотренных     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2"/>
              </a:rPr>
              <a:t>п. 50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и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3"/>
              </a:rPr>
              <a:t>51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4"/>
              </a:rPr>
              <a:t>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5"/>
              </a:rPr>
              <a:t>Порядка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1077912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6113"/>
                </a:solidFill>
                <a:latin typeface="Arial"/>
                <a:ea typeface="Arial"/>
              </a:rPr>
              <a:t>Проведите объективную самооцен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59" name="Объект 3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12125520" cy="5954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: вниз 2"/>
          <p:cNvSpPr/>
          <p:nvPr/>
        </p:nvSpPr>
        <p:spPr>
          <a:xfrm>
            <a:off x="10769760" y="6018120"/>
            <a:ext cx="588960" cy="708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355680" y="93600"/>
          <a:ext cx="11701440" cy="6521400"/>
        </p:xfrm>
        <a:graphic>
          <a:graphicData uri="http://schemas.openxmlformats.org/drawingml/2006/table">
            <a:tbl>
              <a:tblPr/>
              <a:tblGrid>
                <a:gridCol w="11701440"/>
              </a:tblGrid>
              <a:tr h="1117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актуальный период для систематизации документов и подготовки к аттест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54036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ьте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комплексных мероприятий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четом ваших потребностей и возможностей,  в котором рекомендуем отрази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ль профессионального развит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бота над методической тем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работка методических материалов; обобщение опыта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ышение квалификац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изация  инновационной и экспериментальной деятельности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педагог выбирает св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й маршрут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вершенствованию выявленных профессиональных потребносте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 учетом уровня своих притяз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27080" y="223920"/>
          <a:ext cx="11853720" cy="7119720"/>
        </p:xfrm>
        <a:graphic>
          <a:graphicData uri="http://schemas.openxmlformats.org/drawingml/2006/table">
            <a:tbl>
              <a:tblPr/>
              <a:tblGrid>
                <a:gridCol w="1185372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, что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валификационные категории,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установл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до  вступления в силу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Приказа № 196 от   24.03.2023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сохраняются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в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течение срока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на который они были установлены.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2 Приказ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избежание дополнительных запросов об аттестуемом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оменду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ожить в пакет документ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итоги предыдущей аттестации (если получатель услуг был ранее аттестова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назначение на должность, по которой аттестуется получатель усл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кумент об образова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Схема 3" descr=""/>
          <p:cNvPicPr/>
          <p:nvPr/>
        </p:nvPicPr>
        <p:blipFill>
          <a:blip r:embed="rId1"/>
          <a:stretch/>
        </p:blipFill>
        <p:spPr>
          <a:xfrm>
            <a:off x="165240" y="96840"/>
            <a:ext cx="11831400" cy="110340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2" descr=""/>
          <p:cNvPicPr/>
          <p:nvPr/>
        </p:nvPicPr>
        <p:blipFill>
          <a:blip r:embed="rId2"/>
          <a:stretch/>
        </p:blipFill>
        <p:spPr>
          <a:xfrm>
            <a:off x="30240" y="1109520"/>
            <a:ext cx="1219824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3"/>
          <p:cNvSpPr/>
          <p:nvPr/>
        </p:nvSpPr>
        <p:spPr>
          <a:xfrm>
            <a:off x="316080" y="-212760"/>
            <a:ext cx="11559960" cy="67924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ите  решен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 какой фор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те подавать зая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епосредственная подач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аттестационную комисс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заявлен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почтовому адре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ссии (с уведомлением о вручении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в форме электронного документ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втоматизированную информационную систему (АИС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боты в электронной системе по аттестации нужно зайти по ссылке http://att.edu54.ru Обязательно проконтролируйте зарегистрировано ли ваше заявл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подачей заявления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И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затель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убедитесь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Вас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есть курирующий методист.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т - Ваш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явление пропад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Схема 3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11565000" cy="7682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588960" y="1056960"/>
            <a:ext cx="11268000" cy="58006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заполнения  сведений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милия, имя, отчест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е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авиль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именование организ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ой работает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пределитесь с выбором предметной группы, если подаете через АИС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нимательно выбирайте предметную обла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собенно сфера культуры, ДОП, ДОУ,  коррекция, физкультура и ОБЖ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уйте возможности индивидуальных консультац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методис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держательному наполнению зая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иложения к нем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желаете присутствовать на заседании АК, отметьте это в заявле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Схема 3" descr=""/>
          <p:cNvPicPr/>
          <p:nvPr/>
        </p:nvPicPr>
        <p:blipFill>
          <a:blip r:embed="rId1"/>
          <a:stretch/>
        </p:blipFill>
        <p:spPr>
          <a:xfrm>
            <a:off x="165240" y="85680"/>
            <a:ext cx="1216656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161640" y="1260000"/>
            <a:ext cx="12030120" cy="55976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подачи документов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яе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структурированную и систематизированную информацию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о профессиональной деятельн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тельно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изучите инструкцию и алгорит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одаете документы через АИС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икрепляемы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файл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лжны быть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 формате pdf, jpeg, png, не больше 5 мб. 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ложит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акет (подгрузить скан, если через АИС)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копия документа),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тверждающий назначение на должно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 которой проходите аттестацию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копия документа), подтверждающий итог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ыдущей аттест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подаете на высшую КК);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разовани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п.28.Порядок аттестаци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 забудь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верить документы работодател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ном порядке, предусмотренном законодательством.  (п.41 Регламента)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2120" y="220680"/>
            <a:ext cx="1173168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нормативные документы по вопросам аттестации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132120" y="984240"/>
            <a:ext cx="12574440" cy="77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70c0"/>
                </a:solidFill>
                <a:latin typeface="Trebuchet MS"/>
              </a:rPr>
              <a:t>-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Федераль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29.12.2012 № 273-ФЗ «Об образовании в Российской Федерации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кументы прямого действия  обязатель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изучени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Приказ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инистерства просвещения РФ от 24.03.2023 № 196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б утверждении Порядка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ия аттестации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педагогических работников организаций, осуществляющих образовательную деятельно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ОТВЕТЫ</a:t>
            </a:r>
            <a:r>
              <a:rPr b="1" i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епартамента     подготовки профессионального развития и социального обеспечения педагогических работников  Министерства просвещения РФ  и Профсоюза работников народного образования и науки РФ по применению Порядка аттестации от 24 марта 2023 г. № 19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- Регламент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(в ред. приказа министерства образования Новосибирской области от 04.10.2023 № 2180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01640" y="189000"/>
          <a:ext cx="10007640" cy="7121520"/>
        </p:xfrm>
        <a:graphic>
          <a:graphicData uri="http://schemas.openxmlformats.org/drawingml/2006/table">
            <a:tbl>
              <a:tblPr/>
              <a:tblGrid>
                <a:gridCol w="100076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НА ЗАМЕТКУ!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 порядок заверения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заверительная надпись «Верно»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олжность лица, заверившего документы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подпись заверившего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сшифровка подпис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ата заверения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чать организаци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Схема 3" descr=""/>
          <p:cNvPicPr/>
          <p:nvPr/>
        </p:nvPicPr>
        <p:blipFill>
          <a:blip r:embed="rId1"/>
          <a:stretch/>
        </p:blipFill>
        <p:spPr>
          <a:xfrm>
            <a:off x="298440" y="60480"/>
            <a:ext cx="11734920" cy="1865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588960" y="2671920"/>
            <a:ext cx="11268000" cy="41860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 на более высокую или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ту ж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предоставьте сведения, подтверждающие налич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наград, званий, знаков отличия, сведений о награждения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участие в профессиональных конкурсах, которые получены в течение пяти лет предшествующих аттестации;        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3" name="Рисунок 1" descr=""/>
          <p:cNvPicPr/>
          <p:nvPr/>
        </p:nvPicPr>
        <p:blipFill>
          <a:blip r:embed="rId2"/>
          <a:stretch/>
        </p:blipFill>
        <p:spPr>
          <a:xfrm>
            <a:off x="5402160" y="1905120"/>
            <a:ext cx="820800" cy="69048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"/>
          <p:cNvPicPr/>
          <p:nvPr/>
        </p:nvPicPr>
        <p:blipFill>
          <a:blip r:embed="rId3"/>
          <a:stretch/>
        </p:blipFill>
        <p:spPr>
          <a:xfrm>
            <a:off x="9053640" y="6227640"/>
            <a:ext cx="8348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3"/>
          <p:cNvSpPr/>
          <p:nvPr/>
        </p:nvSpPr>
        <p:spPr>
          <a:xfrm>
            <a:off x="284040" y="0"/>
            <a:ext cx="1156176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е награ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филю педагогической деятельност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ые з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чинающиеся со слов «Народный», «Заслуженный»;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и отлич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«Отличник народного просвещения», «Отличник профессионально-технического образования», «Почетный работник общего образования Российской Федерации»; другие почетные звания и ведомственные знаки отличия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ен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грудными зна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(«За заслуги в образовании», «За вклад в Российскую культуру» и др.), медалью К.Д. Ушинского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ой грамотой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Благодарностью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Почетными грамотам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 конкурс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реализации приоритет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ого проекта «Образование»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6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2114640" cy="7524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" descr=""/>
          <p:cNvPicPr/>
          <p:nvPr/>
        </p:nvPicPr>
        <p:blipFill>
          <a:blip r:embed="rId2"/>
          <a:stretch/>
        </p:blipFill>
        <p:spPr>
          <a:xfrm>
            <a:off x="8005680" y="6248520"/>
            <a:ext cx="1128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284040" y="0"/>
            <a:ext cx="1177632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ер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ипломан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лауреа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народных, федеральных и областных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чных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профилю деятельности аттестуемого работника («Учитель года», «Воспитатель года», «Педагог-психолог года», «Сердце отдаю детям», «Вожатый года», «Преподаватель года», «Лучший мастер по профессии», «Лидер в образовании», «Педагогический дебют», «Лучший преподаватель детской школы искусств», «Мастер года», «Учитель-дефектолог России», «Лучший учитель татарского языка и литературы», «Первый учитель»)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х прем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сибирской области;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ждународного, федерального, регионального уровней – на высшую квалификационную категорию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-</a:t>
            </a:r>
            <a:r>
              <a:rPr b="0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ровня – н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валификационную категор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9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709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Схема 3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11569680" cy="11286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588960" y="1127160"/>
            <a:ext cx="11268000" cy="56498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, имеющи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ученые звания и степен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 аттеста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ту же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лификационную категорию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имеете первую КК , подать можно по льготе на первую КК, а на высшую КК – на общих основан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Стрелка: вниз 1"/>
          <p:cNvSpPr/>
          <p:nvPr/>
        </p:nvSpPr>
        <p:spPr>
          <a:xfrm>
            <a:off x="5538960" y="995400"/>
            <a:ext cx="793440" cy="914400"/>
          </a:xfrm>
          <a:prstGeom prst="downArrow">
            <a:avLst>
              <a:gd name="adj1" fmla="val 50000"/>
              <a:gd name="adj2" fmla="val 4565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800" y="91800"/>
            <a:ext cx="1193796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А ЗАМЕТКУ!        </a:t>
            </a:r>
            <a:r>
              <a:rPr b="1" lang="ru-RU" sz="3200" spc="-1" strike="noStrike">
                <a:solidFill>
                  <a:srgbClr val="486113"/>
                </a:solidFill>
                <a:latin typeface="Arial"/>
                <a:ea typeface="Arial"/>
              </a:rPr>
              <a:t>Вам может быть отказано </a:t>
            </a:r>
            <a:r>
              <a:rPr b="1" lang="ru-RU" sz="2800" spc="-1" strike="noStrike">
                <a:solidFill>
                  <a:srgbClr val="486113"/>
                </a:solidFill>
                <a:latin typeface="Arial"/>
                <a:ea typeface="Arial"/>
              </a:rPr>
              <a:t>в приеме заявления, есл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5200" y="1473120"/>
            <a:ext cx="115920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за установлением той же самой квалификационной категории (первой или высшей) следует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до истечения 1 года об отказ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К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ии этой квалификационной категори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со 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еш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ой же долж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аетесь с заявлением в аттестационную комиссию, 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день подачи заявления не замещаете должно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ого работник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 организации, осуществляющей образовательную деятельнос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Схема 3" descr=""/>
          <p:cNvPicPr/>
          <p:nvPr/>
        </p:nvPicPr>
        <p:blipFill>
          <a:blip r:embed="rId1"/>
          <a:stretch/>
        </p:blipFill>
        <p:spPr>
          <a:xfrm>
            <a:off x="-23760" y="225360"/>
            <a:ext cx="12069720" cy="1444680"/>
          </a:xfrm>
          <a:prstGeom prst="rect">
            <a:avLst/>
          </a:prstGeom>
          <a:ln w="0">
            <a:noFill/>
          </a:ln>
        </p:spPr>
      </p:pic>
      <p:pic>
        <p:nvPicPr>
          <p:cNvPr id="486" name="Объект 5" descr=""/>
          <p:cNvPicPr/>
          <p:nvPr/>
        </p:nvPicPr>
        <p:blipFill>
          <a:blip r:embed="rId2"/>
          <a:stretch/>
        </p:blipFill>
        <p:spPr>
          <a:xfrm>
            <a:off x="176040" y="1407960"/>
            <a:ext cx="118033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82800" y="345960"/>
            <a:ext cx="79977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Отрицательное решен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63600" y="1854360"/>
            <a:ext cx="932184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(об отказе в установлении квалификационной категори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направляется уведомл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заявителю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тказе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высшей КК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яется имеющаяся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вая КК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ыла установлена после 1 сентября 2023 год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0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аттеста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отказан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ращаетесь  по желанию на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ту же КК не ранее чем через год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1 Порядок аттестации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5400" y="134640"/>
            <a:ext cx="117601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Информация, необходимая педагогическому работнику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" y="820800"/>
            <a:ext cx="1148076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ультации  в техническом отделе аттестации НИПК и ПРО начальник отдела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хоманова Наталья Романовна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27-0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09@mail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сты отдел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якова Ирина Александровна те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-09@yandex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ина Екатерина Александровна тел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.почта –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binina@ngs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поддержка (если подаете заявление через АИС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лучае ошибок, сбоев, неисправностей и других проблем, связанных с работой самой системы, обращайтесь в службу технической поддерж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зловский Ярослав Александрович.     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963 942 13 18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онедельник -Пятница с 9:00 до 17:00).      E-mail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@oblcit.r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34680" y="90360"/>
            <a:ext cx="1092204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92" name="Рисунок 1" descr=""/>
          <p:cNvPicPr/>
          <p:nvPr/>
        </p:nvPicPr>
        <p:blipFill>
          <a:blip r:embed="rId1"/>
          <a:stretch/>
        </p:blipFill>
        <p:spPr>
          <a:xfrm>
            <a:off x="839880" y="2117880"/>
            <a:ext cx="9882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3f7819"/>
                </a:solidFill>
                <a:latin typeface="Arial"/>
                <a:ea typeface="Arial"/>
              </a:rPr>
              <a:t>        </a:t>
            </a: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Рекомендуем ознакомитьс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1320" y="1526760"/>
            <a:ext cx="117363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риказ Министерства здравоохранения и социального развития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6 августа 2010 г. N 761н  «Об утверждении Единого квалификационного справочника должностей руководителей, специалистов и служащих, раздел "Квалификационные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характеристики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ов образования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остановление  Правительства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1 февраля 2022 г. N  225   «Об утверждении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номенклатуры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х работников организаций, осуществляющих образовательную деятельность, должностей руководителей образовательных организаций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3160" y="232920"/>
            <a:ext cx="1163304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йти нормативные документы по аттестации и ознакомиться с памятками 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и методическими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рекомендациями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 по заполнению приложения к заявлению можно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 сайте НИПКиПР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92160" y="1616040"/>
          <a:ext cx="11988720" cy="5013360"/>
        </p:xfrm>
        <a:graphic>
          <a:graphicData uri="http://schemas.openxmlformats.org/drawingml/2006/table">
            <a:tbl>
              <a:tblPr/>
              <a:tblGrid>
                <a:gridCol w="11988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ужно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зайт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«НИПКиПРО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едения об образовательной организа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труктура и органы управления образовательной организацией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технический отдел аттестации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х кадров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документ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433" name="Стрелка: вниз 3"/>
          <p:cNvSpPr/>
          <p:nvPr/>
        </p:nvSpPr>
        <p:spPr>
          <a:xfrm>
            <a:off x="5843520" y="1930320"/>
            <a:ext cx="484200" cy="3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Стрелка: вниз 4"/>
          <p:cNvSpPr/>
          <p:nvPr/>
        </p:nvSpPr>
        <p:spPr>
          <a:xfrm>
            <a:off x="8067600" y="2803680"/>
            <a:ext cx="49680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Стрелка: вниз 5"/>
          <p:cNvSpPr/>
          <p:nvPr/>
        </p:nvSpPr>
        <p:spPr>
          <a:xfrm>
            <a:off x="2722680" y="4206960"/>
            <a:ext cx="484200" cy="5508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Стрелка: вниз 6"/>
          <p:cNvSpPr/>
          <p:nvPr/>
        </p:nvSpPr>
        <p:spPr>
          <a:xfrm>
            <a:off x="2722680" y="5384880"/>
            <a:ext cx="57924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792000" y="189000"/>
          <a:ext cx="10922040" cy="6489720"/>
        </p:xfrm>
        <a:graphic>
          <a:graphicData uri="http://schemas.openxmlformats.org/drawingml/2006/table">
            <a:tbl>
              <a:tblPr/>
              <a:tblGrid>
                <a:gridCol w="10922040"/>
              </a:tblGrid>
              <a:tr h="1116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2a5010"/>
                          </a:solidFill>
                          <a:latin typeface="Times New Roman"/>
                          <a:ea typeface="MS Mincho"/>
                        </a:rPr>
                        <a:t>Основные нововведен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6055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сро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установления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 ограничен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новые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«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педагог-наставни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072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ля аттестации на высшую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лительности наличия установленной  1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(по любой из должносте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625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аттестации на КК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наставник»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 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и наличия установленной  высшей К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5440" y="609120"/>
            <a:ext cx="10942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ВИДЫ квалификационных категорий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Половина рамки 9"/>
          <p:cNvSpPr/>
          <p:nvPr/>
        </p:nvSpPr>
        <p:spPr>
          <a:xfrm>
            <a:off x="777960" y="4897440"/>
            <a:ext cx="2265120" cy="1468440"/>
          </a:xfrm>
          <a:custGeom>
            <a:avLst/>
            <a:gdLst/>
            <a:ahLst/>
            <a:rect l="l" t="t" r="r" b="b"/>
            <a:pathLst>
              <a:path w="2265362" h="1468438">
                <a:moveTo>
                  <a:pt x="0" y="0"/>
                </a:moveTo>
                <a:lnTo>
                  <a:pt x="2265362" y="0"/>
                </a:lnTo>
                <a:lnTo>
                  <a:pt x="1510249" y="489474"/>
                </a:lnTo>
                <a:lnTo>
                  <a:pt x="489474" y="489474"/>
                </a:lnTo>
                <a:lnTo>
                  <a:pt x="489474" y="1151154"/>
                </a:lnTo>
                <a:lnTo>
                  <a:pt x="0" y="1468438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оловина рамки 10"/>
          <p:cNvSpPr/>
          <p:nvPr/>
        </p:nvSpPr>
        <p:spPr>
          <a:xfrm>
            <a:off x="3389400" y="3882960"/>
            <a:ext cx="2163600" cy="1393920"/>
          </a:xfrm>
          <a:custGeom>
            <a:avLst/>
            <a:gdLst/>
            <a:ahLst/>
            <a:rect l="l" t="t" r="r" b="b"/>
            <a:pathLst>
              <a:path w="2163762" h="1393826">
                <a:moveTo>
                  <a:pt x="0" y="0"/>
                </a:moveTo>
                <a:lnTo>
                  <a:pt x="2163762" y="0"/>
                </a:lnTo>
                <a:lnTo>
                  <a:pt x="1442515" y="464604"/>
                </a:lnTo>
                <a:lnTo>
                  <a:pt x="464604" y="464604"/>
                </a:lnTo>
                <a:lnTo>
                  <a:pt x="464604" y="1094543"/>
                </a:lnTo>
                <a:lnTo>
                  <a:pt x="0" y="1393826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Половина рамки 11"/>
          <p:cNvSpPr/>
          <p:nvPr/>
        </p:nvSpPr>
        <p:spPr>
          <a:xfrm>
            <a:off x="7061040" y="2651040"/>
            <a:ext cx="3870360" cy="1941480"/>
          </a:xfrm>
          <a:custGeom>
            <a:avLst/>
            <a:gdLst/>
            <a:ahLst/>
            <a:rect l="l" t="t" r="r" b="b"/>
            <a:pathLst>
              <a:path w="3870325" h="1941513">
                <a:moveTo>
                  <a:pt x="0" y="0"/>
                </a:moveTo>
                <a:lnTo>
                  <a:pt x="3870325" y="0"/>
                </a:lnTo>
                <a:lnTo>
                  <a:pt x="2580230" y="647165"/>
                </a:lnTo>
                <a:lnTo>
                  <a:pt x="647165" y="647165"/>
                </a:lnTo>
                <a:lnTo>
                  <a:pt x="647165" y="1616869"/>
                </a:lnTo>
                <a:lnTo>
                  <a:pt x="0" y="1941513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627120" y="4398840"/>
            <a:ext cx="20304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ая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3198960" y="3397320"/>
            <a:ext cx="21636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ысшая К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7061040" y="1257480"/>
            <a:ext cx="505476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        </a:t>
            </a: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методист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роходят лица занимающи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ности </a:t>
            </a:r>
            <a:r>
              <a:rPr b="1" lang="ru-RU" sz="2000" spc="-1" strike="noStrike">
                <a:solidFill>
                  <a:srgbClr val="932313"/>
                </a:solidFill>
                <a:latin typeface="Times New Roman"/>
                <a:ea typeface="Calibri"/>
              </a:rPr>
              <a:t>методист и старший методи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Calibri"/>
              </a:rPr>
              <a:t>ст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наставни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1684440" y="5419800"/>
            <a:ext cx="390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язан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едагогической долж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6932520" y="4575240"/>
            <a:ext cx="4565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полнительны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е с методической работой или наставничеств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800" y="-360"/>
            <a:ext cx="1209996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5   Первая КК</a:t>
            </a:r>
            <a:r>
              <a:rPr b="1" lang="ru-RU" sz="29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162360" y="1100160"/>
            <a:ext cx="1226196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осво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образовательны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грам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ом числе в области искусств, физической культуры и спорта по итогам мониторингов, проводимых организаци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учающимися образовательных программ по итога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ониторинга системы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бучающих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пособност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 научной (интеллектуальной), творческой, физкультурно-спортивн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вышение качества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активного участия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етодических объединен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51120" y="196560"/>
            <a:ext cx="121921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6. Высшая КК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203040" y="1480680"/>
            <a:ext cx="1168416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достиж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ожительной динамики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, в том числе в области искусств, физической культуры и спорта по итогам мониторингов, проводимых организацией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 достижения обучающимися положительных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 по итогам мониторинга системы образования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и развит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ей обучающихся к научной (интеллектуальной), творческой, физкультурно-спортивной деятельности, а также их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участия в олимпиадах, конкурсах, фестивалях, соревнования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Стрелка: вниз 1"/>
          <p:cNvSpPr/>
          <p:nvPr/>
        </p:nvSpPr>
        <p:spPr>
          <a:xfrm>
            <a:off x="9275760" y="6661080"/>
            <a:ext cx="666720" cy="596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38200" y="782640"/>
            <a:ext cx="1045512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в повышение качества образ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и продуктивного использования новых образовательных технологий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в том числ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спериментальной и инновационно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активного участ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боте методических объедин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й, 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работке программно-методического сопровожд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ьного процесса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фессиональных конкурс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2T06:57:22Z</dcterms:created>
  <dc:creator>Лихоманова</dc:creator>
  <dc:description/>
  <dc:language>en-US</dc:language>
  <cp:lastModifiedBy>ЛихомановаНР</cp:lastModifiedBy>
  <cp:lastPrinted>2023-08-22T03:38:00Z</cp:lastPrinted>
  <dcterms:modified xsi:type="dcterms:W3CDTF">2024-09-12T03:57:07Z</dcterms:modified>
  <cp:revision>300</cp:revision>
  <dc:subject/>
  <dc:title>АТТЕСТАЦИЯ ПЕДАГОГИЧЕСКИХ РАБОТНИКОВ</dc:title>
</cp:coreProperties>
</file>